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CBCF-C131-42B9-B846-43A31FCB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80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AC7D-2309-487A-8BB0-586FE567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80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80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684C-9059-417A-8F4C-961BBA7A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80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80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80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6A04-5AF3-452E-802C-53A8EACB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432D-BFAF-4A6A-89FE-97C9B02E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4516-59F4-434F-B9D3-C0867ECA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D2C0-45BC-43EA-864C-184CAB3D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8DFD-2953-44BD-B644-0A211CEF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94AD-FF63-4F74-9F10-0E70F4FA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0FD9-3895-49E6-B46E-B9B5FE0C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80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781F-00C7-4392-9EBC-960ED3C2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9B3A-BE22-49B1-9F47-D8406A9E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80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F7FF-1F4C-40FB-AF4C-CA76D63C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80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E484-6D14-4A17-B1D4-E80D22A0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80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E4D0-9953-4D43-976B-5193C9EA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80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80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820D-35F0-4106-8C05-73E959314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80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80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8067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1AD5-CB2D-44DC-AAAB-F637E5143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350-3E77-47BB-BD42-D7DE4E5F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4568-A9D7-4745-A85A-115DB109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ED8F-C1AD-413B-AF48-F7215BA8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5D2-D9BC-4D84-B030-0BA39DCD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80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B6D-E05F-436C-8D15-1B4F0101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806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A284-5A00-460B-B657-D7897458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8067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E309-75F9-40C3-806E-9CB68740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526F-D3C1-4B40-B8EB-473DCC7C7B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B85B-475C-4A52-B7FB-22AF795C2A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Chapter 26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FRANKLIN D. ROOSEVELT AND THE NEW DEAL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 algn="ctr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ivine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Breen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Fredrickson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Williams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Gross  </a:t>
            </a:r>
            <a:r>
              <a:rPr b="0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 Br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0" y="65800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Hoover and Voluntarism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01800" y="1905120"/>
            <a:ext cx="7485120" cy="52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over initially sought solution through voluntary action, private char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gged Individualism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ly aided farmers with Farm Board to buy surpluses and bankers with loans through Reconstruction Finance Corpo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us Army &amp; General MacArth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Hoover, cont.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sted Democratic efforts to give direct aid to the unemploy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cked for his inability to stop economic dec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eived as  indifferent to human suff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980720"/>
            <a:ext cx="7772400" cy="5410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p9prob"/>
          <p:cNvPicPr/>
          <p:nvPr/>
        </p:nvPicPr>
        <p:blipFill>
          <a:blip r:embed="rId2"/>
          <a:stretch/>
        </p:blipFill>
        <p:spPr>
          <a:xfrm>
            <a:off x="228600" y="533520"/>
            <a:ext cx="876312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36" name="Content Placeholder 3" descr="Hooverville_June10-1937_Lee399.jpg"/>
          <p:cNvPicPr/>
          <p:nvPr/>
        </p:nvPicPr>
        <p:blipFill>
          <a:blip r:embed="rId1"/>
          <a:srcRect l="-7429" t="0" r="-7429" b="0"/>
          <a:stretch/>
        </p:blipFill>
        <p:spPr>
          <a:xfrm>
            <a:off x="76212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38" name="Content Placeholder 3" descr="hooverville-2.jpg"/>
          <p:cNvPicPr/>
          <p:nvPr/>
        </p:nvPicPr>
        <p:blipFill>
          <a:blip r:embed="rId1"/>
          <a:srcRect l="0" t="-2720" r="0" b="-2720"/>
          <a:stretch/>
        </p:blipFill>
        <p:spPr>
          <a:xfrm>
            <a:off x="685800" y="76212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40" name="Content Placeholder 3" descr="centralparkhooverv.jpg"/>
          <p:cNvPicPr/>
          <p:nvPr/>
        </p:nvPicPr>
        <p:blipFill>
          <a:blip r:embed="rId1"/>
          <a:srcRect l="-6558" t="0" r="-6558" b="0"/>
          <a:stretch/>
        </p:blipFill>
        <p:spPr>
          <a:xfrm>
            <a:off x="685800" y="685800"/>
            <a:ext cx="77724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Bank Failures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l pulled money from banks following cra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ks invested money into stocks and lo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29 – 600 banks clo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3 – 11,000 of nation’s 25,000 clo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5800" y="1980720"/>
            <a:ext cx="7772400" cy="5410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crowd scene outside bank"/>
          <p:cNvPicPr/>
          <p:nvPr/>
        </p:nvPicPr>
        <p:blipFill>
          <a:blip r:embed="rId2"/>
          <a:stretch/>
        </p:blipFill>
        <p:spPr>
          <a:xfrm>
            <a:off x="990720" y="762120"/>
            <a:ext cx="723888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Bank Failures, 1929–1933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49" name="Picture 6" descr="DIVI550"/>
          <p:cNvPicPr/>
          <p:nvPr/>
        </p:nvPicPr>
        <p:blipFill>
          <a:blip r:embed="rId1"/>
          <a:stretch/>
        </p:blipFill>
        <p:spPr>
          <a:xfrm>
            <a:off x="1219320" y="1676520"/>
            <a:ext cx="678168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Emergence of Roosevel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nklin Rooseve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rn to wealth and privile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21: Crippled by pol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28: Elected governor of New Y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lented and persuasive politic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2: Defeated Hoover with farmer- worker-immigrant-Catholic coal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Great Depression - Causes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iffs and war debt policies that cut down the foreign market for Amer. go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sis in farm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ailability of easy cred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qual distribution of in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DIVI7233566"/>
          <p:cNvPicPr/>
          <p:nvPr/>
        </p:nvPicPr>
        <p:blipFill>
          <a:blip r:embed="rId1"/>
          <a:stretch/>
        </p:blipFill>
        <p:spPr>
          <a:xfrm>
            <a:off x="1986120" y="685800"/>
            <a:ext cx="5229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8" descr="DIVI7233TB2601"/>
          <p:cNvPicPr/>
          <p:nvPr/>
        </p:nvPicPr>
        <p:blipFill>
          <a:blip r:embed="rId1"/>
          <a:stretch/>
        </p:blipFill>
        <p:spPr>
          <a:xfrm>
            <a:off x="1371600" y="609480"/>
            <a:ext cx="64008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Hundred Days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R inaugural inspired with the term “nothing to fear, but fear itself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nking system saved from collap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een major laws provided rel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nessee Valley Authority was the most ambitious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Deal aimed to reform and restore, not nationalize, the econom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Tennessee Valley Authority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61" name="Picture 4" descr="DIVI7233568"/>
          <p:cNvPicPr/>
          <p:nvPr/>
        </p:nvPicPr>
        <p:blipFill>
          <a:blip r:embed="rId1"/>
          <a:stretch/>
        </p:blipFill>
        <p:spPr>
          <a:xfrm>
            <a:off x="2057400" y="2133720"/>
            <a:ext cx="50292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Roosevelt and Recovery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Recovery Admin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ustries formulated codes to eliminate cut-throat competition, ensure labor pe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des favored big business, unenforce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935: NRA ruled unconstitu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icultural Adjustment Act of 193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ers paid to take land out of culti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ces increased, mainly because of government payments, but Dust Bowl helped by cutting supp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croppers, tenant farmers disposses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Roosevelt and Relief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3: Harry Hopkins placed in charge of RFC to direct aid to unemploy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3: Civilian Conservation Corps provided employment to young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5: Works Progress Administration placed unemployed on federal payro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ams never sufficiently fun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Roosevelt and Reform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3–1934: Focus on immediate proble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5: Shift to permanent economic reform, “broker stat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hallenges to FDR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her Charles Coughlin advocated nationalizing banks, anti-Semitis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ncis Townsend called for $200 per month pensions to all those over 60 if they spent it within the mon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ey Long and the Share the Wealth Clubs called for redistribution of wealth by seizing private fortu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Social Security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5: Social Security Act pa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ic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 few people would collect pens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mployment package inadequ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ished pattern of government aid to poor, aged, handicap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Labor Legislation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5: Wagner A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ed unions to organiz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lawed unfair labor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8: Fair Labor Standard A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um ho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wag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 Electrification Administration brought electricity to 90% of farmers who did not have it in 19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Great Crash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sinesses laid off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and for consumer goods decl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Impact of the New Deal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d a broad influence on the quality of life in the U.S. in the 193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ed labor unions m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ped women, minorities le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Rise of Organized Labor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2: National Recovery Act spurred union organiz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of Industrial Organization (CIO) formed by John L. Lew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O unionized steel, auto indus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40: CIO membership hit 5 million, 28% of labor force union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New Deal Record on Help to Minorities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p reduction program allowed whites to fire or evict blacks, Hispanic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works programs helped by providing employ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Deal figures convinced minorities that the government was on their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4: Indian Reorganization Act gave American Indians greater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Women at Work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on of women deteriorated in ‘3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s lost at a faster rate than 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ly any New Deal programs hel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gress in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nces Perkins, Secretary of Labor, the first woman cabinet m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men appointed to several other po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anor Roosevelt a model for activis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End of the New Deal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6: New Deal peaked with Roosevelt’s re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 resisted programs after 193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Election of 1936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R’s campa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acked the rich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ised further refor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eated Republican Alf Land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crats won lopsided majorities in both houses of Cong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R coalition:  South, cities, labor, ethnic groups, African Americans, po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Election of 1936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211" name="Picture 4" descr="DIVI7233TB2602"/>
          <p:cNvPicPr/>
          <p:nvPr/>
        </p:nvPicPr>
        <p:blipFill>
          <a:blip r:embed="rId1"/>
          <a:srcRect l="0" t="16462" r="0" b="0"/>
          <a:stretch/>
        </p:blipFill>
        <p:spPr>
          <a:xfrm>
            <a:off x="380880" y="2514600"/>
            <a:ext cx="845820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Supreme Court Figh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reme Court blocked several of FDR’s first-term pro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7: FDR sought right to "pack" Cou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essional protest forced retr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R’s opponents embolde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DIVI7233TB2603a"/>
          <p:cNvPicPr/>
          <p:nvPr/>
        </p:nvPicPr>
        <p:blipFill>
          <a:blip r:embed="rId1"/>
          <a:stretch/>
        </p:blipFill>
        <p:spPr>
          <a:xfrm>
            <a:off x="1143000" y="685800"/>
            <a:ext cx="676584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DIVI7233TB2603b"/>
          <p:cNvPicPr/>
          <p:nvPr/>
        </p:nvPicPr>
        <p:blipFill>
          <a:blip r:embed="rId1"/>
          <a:stretch/>
        </p:blipFill>
        <p:spPr>
          <a:xfrm>
            <a:off x="1219320" y="696960"/>
            <a:ext cx="670536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Crash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pite dropping prices week before, experts said all was 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t. 29, 1929-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ack Tuesda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hareholders frantically tried to sell before prices dropped even l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.4 million shares dumped, 3 million ppl aff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mid-Nov. investors lost $30 bill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New Deal in Decline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6: Cutbacks for relief agenc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7: Severe slump hit 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osevelt blamed, resorted to huge government spe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38: Republican party revi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The New Deal and American Life</a:t>
            </a:r>
            <a:endParaRPr b="0" lang="en-US" sz="40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Deal’s limi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ression not en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system not fundamentally alter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le done for those without political cl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Security, the Wagner Ac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al realignment of the 1930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The Great Crash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sinesses laid off wor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and for consumer goods decl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1920s economy failed to distribute wealth broadly en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ey used for profits, dividends, and stock speculation should have been used for wage in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ivity increased 43%, wages only by 11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56"/>
          <p:cNvPicPr/>
          <p:nvPr/>
        </p:nvPicPr>
        <p:blipFill>
          <a:blip r:embed="rId1"/>
          <a:stretch/>
        </p:blipFill>
        <p:spPr>
          <a:xfrm>
            <a:off x="457200" y="66600"/>
            <a:ext cx="82296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Unemployment, 1929–1942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119" name="Picture 7" descr="DIVI7233562"/>
          <p:cNvPicPr/>
          <p:nvPr/>
        </p:nvPicPr>
        <p:blipFill>
          <a:blip r:embed="rId1"/>
          <a:stretch/>
        </p:blipFill>
        <p:spPr>
          <a:xfrm>
            <a:off x="762120" y="1981080"/>
            <a:ext cx="7619760" cy="41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Effects of the Depression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dship affected all clas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ddle class lost belief in ever-increasing prospe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sands of young homeless, job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Fighting the Depression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ublican attempts to overcome catastrophe flound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ssion gave Democrats opportunity to regain pow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4:20:31Z</dcterms:created>
  <dc:creator>Timothy Hall</dc:creator>
  <dc:description/>
  <cp:keywords/>
  <dc:language>en-US</dc:language>
  <cp:lastModifiedBy>Matthew Myers</cp:lastModifiedBy>
  <cp:lastPrinted>2012-09-21T06:17:17Z</cp:lastPrinted>
  <dcterms:modified xsi:type="dcterms:W3CDTF">2011-03-01T13:22:49Z</dcterms:modified>
  <cp:revision>15</cp:revision>
  <dc:subject/>
  <dc:title>CHAPTER 26 FRANKLIN D. ROOSEVELT AND THE NEW DEAL</dc:title>
</cp:coreProperties>
</file>